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070-4BF4-4850-93F9-55F4F82D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0DE-6543-411D-BB5C-F4C96C98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A79-3EAC-4771-9DDC-59F819BE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7F7-096E-43C2-8B00-4F5998AD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6B8-DE75-4A3B-8BAD-8B2B9CB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8D7-7EA1-4C87-9FE1-0AAC0289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C9F-20DF-4C9A-AE35-AA560C36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5FF-AEC3-4CD7-823A-9F3B808D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30B-ACCB-4367-BC89-090D2859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E5C-C2D2-4203-8089-67CD67E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BBA-B274-4A79-BB5A-F6D5639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B0-FE09-4196-A103-D7196D4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1EE-7CA1-4776-8FF9-84EF2BA1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48:23Z</dcterms:modified>
  <cp:revision>3</cp:revision>
  <dc:subject/>
  <dc:title>Alexander Graham Bell </dc:title>
</cp:coreProperties>
</file>